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631-044C-4036-9AF9-4F4AFD2C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8EC-77C0-4E24-A874-64F24683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F33-6394-43C8-91EC-6A8BFEFD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324-5B45-43A5-AF38-720FE90D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DBF-681D-4787-B83C-22B8005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8BA-B9C8-49B2-ADCE-C8B25DF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AEA-7262-48AE-9639-15353F9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589-DA3C-497C-9090-700EA9A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575-37E4-46C2-A2F7-3D782103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776-CC11-4BAA-956F-E461DF8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30B-F8D6-4386-9CA9-2F75A7D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E1C-B01C-443C-815E-4FF6019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FED-D7C7-4A65-BFD0-1CCB90FB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 Clase 6NH (601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8 de ener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3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son verbos de cambio rad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2743200" cy="12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2639880"/>
            <a:ext cx="2057400" cy="162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12040" y="2057400"/>
            <a:ext cx="165564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895480" y="44197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715000" y="53341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3436920"/>
          <a:ext cx="8763120" cy="2582640"/>
        </p:xfrm>
        <a:graphic>
          <a:graphicData uri="http://schemas.openxmlformats.org/drawingml/2006/table">
            <a:tbl>
              <a:tblPr/>
              <a:tblGrid>
                <a:gridCol w="2743200"/>
                <a:gridCol w="60199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971800" y="3976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510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1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39765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5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5195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038480"/>
            <a:ext cx="46483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943600"/>
            <a:ext cx="8763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" y="4038480"/>
            <a:ext cx="0" cy="19051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03848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5029200"/>
            <a:ext cx="4191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991720" y="502920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19920"/>
            <a:ext cx="472428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095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erbs are also called </a:t>
            </a:r>
            <a:r>
              <a:rPr b="1" lang="en-US" sz="2200" spc="-1" strike="noStrike">
                <a:solidFill>
                  <a:srgbClr val="cc0099"/>
                </a:solidFill>
                <a:latin typeface="Arial"/>
              </a:rPr>
              <a:t>BO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bs; you only change the stem of the verb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39840" y="550080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lose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11:16Z</dcterms:created>
  <dc:creator>Helen Zumaeta</dc:creator>
  <dc:description/>
  <dc:language>en-US</dc:language>
  <cp:lastModifiedBy>Helen Zumaeta</cp:lastModifiedBy>
  <dcterms:modified xsi:type="dcterms:W3CDTF">2013-01-28T01:58:42Z</dcterms:modified>
  <cp:revision>13</cp:revision>
  <dc:subject/>
  <dc:title>Me llamo _______ Clase 6NH La fecha es el 30 de mayo del 2012</dc:title>
</cp:coreProperties>
</file>